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48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4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8880" y="693360"/>
            <a:ext cx="4622760" cy="346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8328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78328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1A09-2FBB-4D70-A2C9-1E11E5952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7D82-13E6-470F-BD1E-221699245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E635-6FB3-4D19-92B0-2C5377A98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98AA-F056-4CC1-9431-57A5DF6E4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3A0F-317F-4707-9DBB-D7943A68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887-B2CD-4270-89A7-B7659CD3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181-70F3-488A-B75B-05FDF617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46B-142E-4E19-9F7B-B08CD50C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9AD-ABC3-4D1F-89B4-20250BCF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C934-B316-49DD-A03F-7C29EC0B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D317-B3AA-4B7C-BDC0-B00A1877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D24E-3A35-44E9-845F-DB890112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4A4A-56FE-4C8E-9C31-5D01FF94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4E87-BE69-4FBB-A70E-5F1D4866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6DBC-4102-4CBC-ACBD-8D67FA39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944E-2C33-41AF-AACD-520AEA40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0BD-5215-4DCA-BAFE-A532C40F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ADDA-5DF9-41BC-9533-FF2D39F8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2E1-5A23-49F6-AC3B-3A384DD4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6F4B-D655-45CF-9B60-62CD93DA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95C0-A485-497C-8554-073D25CB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1386-70AC-48FE-87D4-1EC9F1FC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630-FA50-4D4C-85DA-0275E3E8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D4D-A718-4BF4-853D-07AC90EA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A49-E76A-4C14-A8FA-484C8B0F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7F7-DB7A-4B7A-87B3-47E5707D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02F-1959-49A1-A8B6-E87E583B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2E1-CB74-40BD-A251-6F703C07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980-9700-4D11-A320-D3B28B83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CB8A-27BA-4102-B683-ECFE2B20DE5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5C31-BC8D-491F-80D9-94A39F55567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4 Major Sty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pective – linear style with a vanishing point: 3-D eff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ism – idolizing classic images, architecture and ide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larism – emphasis on civic virtue, non-div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ism – attention given to detail of human features, focus on the individu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373356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edieval Ar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2" name="Picture 5" descr="giolam"/>
          <p:cNvPicPr/>
          <p:nvPr/>
        </p:nvPicPr>
        <p:blipFill>
          <a:blip r:embed="rId1"/>
          <a:stretch/>
        </p:blipFill>
        <p:spPr>
          <a:xfrm>
            <a:off x="0" y="984240"/>
            <a:ext cx="6324480" cy="5873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6400800" y="68580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Focus on the div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Flat, 2-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Same face/no det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inconsistent size (body vs. le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asaccio-Tribute Mone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1427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5" name="Picture 9" descr="Masaccio-tribute"/>
          <p:cNvPicPr/>
          <p:nvPr/>
        </p:nvPicPr>
        <p:blipFill>
          <a:blip r:embed="rId1"/>
          <a:stretch/>
        </p:blipFill>
        <p:spPr>
          <a:xfrm>
            <a:off x="152280" y="1905120"/>
            <a:ext cx="885348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Botticelli, The Birth of Ven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7" name="Picture 4" descr="botticelli_venus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50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600" y="228600"/>
            <a:ext cx="2743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donna of Chancellor Roll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rolin"/>
          <p:cNvPicPr/>
          <p:nvPr/>
        </p:nvPicPr>
        <p:blipFill>
          <a:blip r:embed="rId1"/>
          <a:stretch/>
        </p:blipFill>
        <p:spPr>
          <a:xfrm>
            <a:off x="3124080" y="457200"/>
            <a:ext cx="5799240" cy="615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52280" y="7632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BlackChancery"/>
              </a:rPr>
              <a:t>The Doge, Leonardo Loredon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BlackChancery"/>
              </a:rPr>
              <a:t>Berlini, 150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3" descr="Bellini-The Doge Leonardo Loredon-1501-05"/>
          <p:cNvPicPr/>
          <p:nvPr/>
        </p:nvPicPr>
        <p:blipFill>
          <a:blip r:embed="rId1"/>
          <a:srcRect l="1840" t="2684" r="2454" b="14095"/>
          <a:stretch/>
        </p:blipFill>
        <p:spPr>
          <a:xfrm>
            <a:off x="2362320" y="1447920"/>
            <a:ext cx="44100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rkuenzi.wikispaces.co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W:\Downloads\qrcode.19846558.png"/>
          <p:cNvPicPr/>
          <p:nvPr/>
        </p:nvPicPr>
        <p:blipFill>
          <a:blip r:embed="rId1"/>
          <a:stretch/>
        </p:blipFill>
        <p:spPr>
          <a:xfrm>
            <a:off x="1219320" y="7570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01:02:39Z</dcterms:created>
  <dc:creator>Will</dc:creator>
  <dc:description/>
  <dc:language>en-US</dc:language>
  <cp:lastModifiedBy>tech</cp:lastModifiedBy>
  <dcterms:modified xsi:type="dcterms:W3CDTF">2014-02-06T13:27:43Z</dcterms:modified>
  <cp:revision>16</cp:revision>
  <dc:subject/>
  <dc:title>Masaccio-Tribute Money 1427</dc:title>
</cp:coreProperties>
</file>